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BE7-2FAE-44E5-81BE-9E7F13CF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BF0B-DF4F-4E23-A15C-AE786516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B6F-784A-4492-979B-1BA905CA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891-8F87-47B6-812B-F90B57EBF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DCE84-7B62-4555-A94C-5C82B860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AF44A-E460-4306-A578-C2E0A921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8925E-194E-4ED2-B28E-061256FD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535AC-5C9B-4CDF-BEDC-46577622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3267E-FE0D-41B5-9AD6-C76D85F8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AC4214-DBFB-4BCD-9620-2642930F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6D0811-A357-4C3E-9204-3C427FD6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35D-DEA9-4843-9091-605D7C32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41807-EA21-4AA6-AADA-EAE37022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C7699E-F7E4-45C3-8B23-7B489521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E5D2E7-5FD0-4CE7-B3C4-C204127B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56AF2B-6233-44C2-99E2-7D8726B3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E560F-F0C3-447B-A793-4F5D2FBC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3817-A24C-4D9C-AF47-2D03FA62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E91A-D43F-47D4-A573-8E0D1064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A87-9D16-4307-9919-29BBCEE2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1EFD-3F34-44D3-9F48-EC76886F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269-75C2-43CE-820D-F49E17A4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8169-A30F-4295-9E81-2DFEBED71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357A-3E53-4B74-9390-0A00F5C3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33D1-906C-4BD9-8783-4EA5F51A6FD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72AC-1947-49ED-9AA5-06F31751B70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475920"/>
            <a:ext cx="6400800" cy="48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状 语 从 句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状语从句是用来修饰主句的谓   语动词，表示动作发生的时间，地点，原因，条件，行为方式，结果，程度，让步等等，以下对状语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一作介绍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it had not been raining for quite 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ong time , that year was a dry o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弱，不表强烈的因果关系，即可在句首又可在后面，不是重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 her parents are music teachers, she is into music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a little fat as she is always ea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/ was … that 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强调句型中，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/ Now that... 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只在句首，表众所周知的原因，“既然…，由于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the earth moves around the sun, we have four different seasons in a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ince /Now that everybody is here and everything is ready, let’s begin our meeti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ow that you have already understood about it , I won’t say anything m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for: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在句首，表补充说明，“大概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大约因为”，有“，” 与主句隔开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pring has come, for flowers have come out these d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have to say goodbye now, for it is v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ark out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条件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, as/so long as, unles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条件状语从句中，常常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f it is fine tomorrow, we shall go out for a picnic instead of staying insi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So long as you work hard, you’re sure to pass next month’s examina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unless= if… no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e WTO cannot live up to its name unless it includes a country that is home to 1/5 of manki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You won’t succeed unless you work harder than befo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in ca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用一般现在时态来表示将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remember to bring the raincoat with yourself in case it rains this afterno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行为方式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 are told/lik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Do as you’re at hom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六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结果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that, in order 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rt off a little early so that you won’t miss the early b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My father had to go to work when he was very young in order to support the fam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七程度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…that, such…that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is so young this year that she can’t go to school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uch a grea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instein was                       scientist t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o great  a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received the world-wide respect and lo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 is so hot today that I have to stay inside.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306864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八让步状语从句：由以下句型构成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Although/Though…, (yet)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注意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:but /how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不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/Though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 she was ill yesterday, she went to work, but she didn’t stay lo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Why do you prefer coffee tonight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--- Although it keeps me awake, I still prefer coffee to tea 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However +          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owever cold it was that day, there were many people in the stree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e still failed in the exam, however hard he tried. Lend him some help, will yo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…even if/ even though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won’t believe him even if/though he says  about it time and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76720" y="691560"/>
            <a:ext cx="215640" cy="1368360"/>
          </a:xfrm>
          <a:custGeom>
            <a:avLst/>
            <a:gdLst>
              <a:gd name="textAreaLeft" fmla="*/ 137880 w 215640"/>
              <a:gd name="textAreaRight" fmla="*/ 216000 w 21564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当让步状语从句所指的是一种假设的情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时，通常用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而不是用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lthough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everybody desert you, I won’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hough they might do and say someth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bout our plan, we won’t give 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e will always stay all together though 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l happen to meet all kinds of difficul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多数情况下，两个词可通用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97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97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897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897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97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97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97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897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一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时间状语从句：由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as soon as, the moment, immediately, while, as, every /each time, after, before, until, since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/As soon as/ The moment /Immediately she knows about the good news, she’ll be madly happy and exci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Every/Each time he comes back from abroad, he’ll find great changes in his hometown and be greatly encourag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4).    v.       + as/ though…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d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hild as he is, he is so lea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Cold as it was the other day, we had 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tand in the cold air, waiting for hi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Try as/though she could,she didn’t pass       the examination last week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116000" y="981000"/>
            <a:ext cx="504720" cy="1800360"/>
          </a:xfrm>
          <a:custGeom>
            <a:avLst/>
            <a:gdLst>
              <a:gd name="textAreaLeft" fmla="*/ 322560 w 504720"/>
              <a:gd name="textAreaRight" fmla="*/ 505080 w 50472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Much as/though they have already lear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about the war, there’s still something 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important for them to mas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at, who, whom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5).                                 +-ever +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en, where, 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此句型不仅仅用来引导让步状语从句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Whoever he is, he’ll be punished if he breaks th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la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* Whoever breaks the law will be pun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184464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3860640"/>
            <a:ext cx="71280" cy="1152720"/>
          </a:xfrm>
          <a:custGeom>
            <a:avLst/>
            <a:gdLst>
              <a:gd name="textAreaLeft" fmla="*/ 45720 w 71280"/>
              <a:gd name="textAreaRight" fmla="*/ 71640 w 71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him 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 don’t believ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atever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o, whom, wh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6).No matter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, where, h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从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,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主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此句型仅仅用来引导让步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836640"/>
            <a:ext cx="142920" cy="129708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706920" y="2637000"/>
            <a:ext cx="73080" cy="1079280"/>
          </a:xfrm>
          <a:custGeom>
            <a:avLst/>
            <a:gdLst>
              <a:gd name="textAreaLeft" fmla="*/ 46800 w 73080"/>
              <a:gd name="textAreaRight" fmla="*/ 73440 w 7308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o he is, he’ll be punished if he breaks th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on’t believe him no matter  what he s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how I apologized to her, she wouldn’t forgive me for tha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matter where you go in China now, you can find great changes everywhere have taken place in 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7. While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尽管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she is famous, she isn’t resp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as/so far as…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根据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As/ So far as we know, there’re 107 elem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ents in natur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411280" y="76500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在时间状语从句中，用一般现在时表示将来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个句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*1) I was about to leave when the telephone ran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2) She was doing her cooking when she heard the clock strike twelv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3) Hardly had I got home that day when it began to rain heavi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ile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的用法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1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≈when/as: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和持续动词连用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	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2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在句中，表鲜明的对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3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名词，意为“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 short time 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4).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作连词，意为“趁… ”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5)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引导让步状语从句，意为“尽管…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e.g. While staying in the countryside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 learned a lot from the farmer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*when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常和短暂动词连用；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as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表示主句的谓语动词和从句谓语动词同时发生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, e.g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684360" y="1270080"/>
            <a:ext cx="287280" cy="2303280"/>
          </a:xfrm>
          <a:custGeom>
            <a:avLst/>
            <a:gdLst>
              <a:gd name="textAreaLeft" fmla="*/ 183600 w 287280"/>
              <a:gd name="textAreaRight" fmla="*/ 287640 w 287280"/>
              <a:gd name="textAreaTop" fmla="*/ 59760 h 2303280"/>
              <a:gd name="textAreaBottom" fmla="*/ 2243520 h 230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hen I came in, I found she was surfing on the internet in her stud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As they were walking, they were telling each other stor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fairly pretty while I’m rather ug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Would you wait for me for a while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trike the iron while it is ho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Arial"/>
              </a:rPr>
              <a:t>She is not respected while she is famou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It will be months before we meet ag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Let’s have a good drink tod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用否定         时间状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v                                +unt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持续动词     用肯定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时间状语从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didn’t go to bed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he                             until 10 last nigh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  <a:ea typeface="Arial"/>
              </a:rPr>
              <a:t>stayed 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2060640"/>
            <a:ext cx="71280" cy="1224000"/>
          </a:xfrm>
          <a:custGeom>
            <a:avLst/>
            <a:gdLst>
              <a:gd name="textAreaLeft" fmla="*/ 45720 w 71280"/>
              <a:gd name="textAreaRight" fmla="*/ 71640 w 71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940360" y="1989000"/>
            <a:ext cx="71640" cy="13687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2133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3213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3789360"/>
            <a:ext cx="72720" cy="1297080"/>
          </a:xfrm>
          <a:custGeom>
            <a:avLst/>
            <a:gdLst>
              <a:gd name="textAreaLeft" fmla="*/ 46440 w 72720"/>
              <a:gd name="textAreaRight" fmla="*/ 73080 w 7272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Since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的句型：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s                                                    d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It        +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一段时间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+ since+ S1 + 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was                                                had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 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d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  <a:ea typeface="Arial"/>
              </a:rPr>
              <a:t>短暂动词         正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V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持续动词         相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He works at a chemical plant; it is half a year since he was a college stud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1258920" y="1341360"/>
            <a:ext cx="73080" cy="1008000"/>
          </a:xfrm>
          <a:custGeom>
            <a:avLst/>
            <a:gdLst>
              <a:gd name="textAreaLeft" fmla="*/ 46800 w 73080"/>
              <a:gd name="textAreaRight" fmla="*/ 7344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1341360"/>
            <a:ext cx="142920" cy="1008000"/>
          </a:xfrm>
          <a:custGeom>
            <a:avLst/>
            <a:gdLst>
              <a:gd name="textAreaLeft" fmla="*/ 91440 w 142920"/>
              <a:gd name="textAreaRight" fmla="*/ 143280 w 14292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76360" y="3284640"/>
            <a:ext cx="71280" cy="936360"/>
          </a:xfrm>
          <a:custGeom>
            <a:avLst/>
            <a:gdLst>
              <a:gd name="textAreaLeft" fmla="*/ 45720 w 71280"/>
              <a:gd name="textAreaRight" fmla="*/ 71640 w 71280"/>
              <a:gd name="textAreaTop" fmla="*/ 24120 h 936360"/>
              <a:gd name="textAreaBottom" fmla="*/ 91224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21080" y="328464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48000" y="4221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gan to l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It’s 3 years since he                         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liv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二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地点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, whereve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a will, there’s a wa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there’s money, there’s the pow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ver you go in China, you can find great changes have taken place recent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Make marks where you’ve got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765000"/>
            <a:ext cx="142920" cy="1151280"/>
          </a:xfrm>
          <a:custGeom>
            <a:avLst/>
            <a:gdLst>
              <a:gd name="textAreaLeft" fmla="*/ 91440 w 142920"/>
              <a:gd name="textAreaRight" fmla="*/ 143280 w 142920"/>
              <a:gd name="textAreaTop" fmla="*/ 29880 h 1151280"/>
              <a:gd name="textAreaBottom" fmla="*/ 1121400 h 11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amboo can grow well where it is wet and wa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Where I live, there’re plenty of sheep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原因状语从句：由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, as, Since/Now that, for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等引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Because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表强烈的因果关系，既可在句首又可在后面，是重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She couldn’t go on with her study because the family was too poo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7T07:43:09Z</dcterms:created>
  <dc:creator>wang xing zhong</dc:creator>
  <dc:description/>
  <dc:language>en-US</dc:language>
  <cp:lastModifiedBy>wang xing zhong</cp:lastModifiedBy>
  <dcterms:modified xsi:type="dcterms:W3CDTF">2003-12-14T02:48:28Z</dcterms:modified>
  <cp:revision>69</cp:revision>
  <dc:subject/>
  <dc:title>状 语 从 句</dc:title>
</cp:coreProperties>
</file>